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F89-21BE-4E15-8D05-F5BAF833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60A-6211-4DFC-8203-CFBA066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6CD-808D-4A9C-8CF5-7AC12195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2924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25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0663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2924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25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EF5-AA4E-4D83-81F1-34BF3121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2C7-75D9-480A-AEAE-55743E12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CE5D-E57F-47A4-8366-FC64CF3F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5A2D-5B9D-4BE7-8A97-189F499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32B1-EA70-4EE1-945C-680FF255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177C-5449-4348-B770-5E5E7216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050C-7CB7-48AC-8145-B4801646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C024-15DA-4F3F-8433-B9A168B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5B7-8444-4284-8931-B822E92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DD0-372F-43E7-A562-1B43725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C435-37C7-43D1-86C0-132A201C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D5DC-E1D5-4965-A752-83034669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794B-C5D2-4312-BE4E-A061363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2924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2520" y="137124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3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2924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2520" y="4157280"/>
            <a:ext cx="2535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B878-5C56-4A83-8B0A-3E644806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4C5-D66C-40B9-9BF2-9C9FFC08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006-8CF3-4163-9111-C7C61CD4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F8D-24F2-4421-BC54-55953C09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29A-A6C4-4EB3-96CB-7831242B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C4C-2CC0-4DBA-875D-E43915C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1920" y="415728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59B-3C31-4D3C-A642-00EBDC9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3843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157280"/>
            <a:ext cx="7875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0C6-C47D-4324-9AA6-8338CD5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E262-DAA1-4223-9682-4B368CFBF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050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2051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2052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2053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2054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2055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2056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2057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2058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2059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2060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2061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2062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2063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2064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2065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2066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2067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68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069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070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071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072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073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074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075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076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077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078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2079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2080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2081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F6FD-21E3-421D-AC03-B97889B4E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members.aol.com/americacruising/illinois-peorialock.jpg&amp;imgrefurl=http://members.aol.com/americacruising/illinois.html&amp;h=447&amp;w=574&amp;prev=/images?q=Illinois+river&amp;svnum=10&amp;hl=en&amp;lr=&amp;ie=UTF-8&amp;oe=UTF-8&amp;sa=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cnn.com/SPECIALS/1999/panama.canal/stories/history/panama.canal.jpg&amp;imgrefurl=http://www.cnn.com/SPECIALS/1999/panama.canal/stories/history/&amp;h=270&amp;w=181&amp;prev=/images?q=canal&amp;start=80&amp;svnum=10&amp;hl=en&amp;lr=&amp;ie=UTF-8&amp;oe=UTF-8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pcug.org/user/jlacombe/pon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epa.gov/owow/wetlands/images/marsh.jpg&amp;imgrefurl=http://www.epa.gov/owow/wetlands/&amp;h=166&amp;w=180&amp;prev=/images?q=marsh&amp;svnum=10&amp;hl=en&amp;lr=&amp;ie=UTF-8&amp;oe=UTF-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ru.uea.ac.uk/cru/info/iccuk/irr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xcons.fi/kuvat/pal2_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ahis.gov.tr/dept/aqua/fishing.jpg&amp;imgrefurl=http://www.ahis.gov.tr/&amp;h=555&amp;w=369&amp;prev=/images?q=fishing&amp;start=40&amp;svnum=10&amp;hl=en&amp;lr=&amp;ie=UTF-8&amp;oe=UTF-8&amp;sa=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environmental-center.com/consulting/iatl/faucet1.jpg&amp;imgrefurl=http://www.environmental-center.com/consulting/iatl/iatl.htm&amp;h=204&amp;w=174&amp;prev=/images?q=drinking+water&amp;svnum=10&amp;hl=en&amp;lr=&amp;ie=UTF-8&amp;oe=UTF-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monsanto.com/monsanto/images/content/our_commitments/atmosphere.jpg&amp;imgrefurl=http://www.monsanto.com/monsanto/layout/our_commitments/environment.asp&amp;h=186&amp;w=200&amp;prev=/images?q=atmosphere&amp;svnum=10&amp;hl=en&amp;lr=&amp;ie=UTF-8&amp;oe=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cgee.hamline.edu/see/questions/dp_biosphere/bios_community/bios_comm_earth.jpg&amp;imgrefurl=http://cgee.hamline.edu/see/questions/dp_biosphere/bios_community/dp_bios_comm_dex.htm&amp;h=473&amp;w=529&amp;prev=/images?q=biosphere&amp;start=280&amp;svnum=10&amp;hl=en&amp;lr=&amp;ie=UTF-8&amp;oe=UTF-8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Water</a:t>
            </a:r>
            <a:br>
              <a:rPr sz="6600"/>
            </a:br>
            <a:endParaRPr b="0" lang="en-US" sz="6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asic and Important Resour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alt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6.5 ppt or more of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ocean and sea water is as high as 33 to 37 pp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ltwater makes up about 97 percent of the earth’s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rackish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ixture of saltwater and fresh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ckish water is found where freshwater flows into the ocean or other bodies of salt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king Water Usabl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tilla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il water, collect vapor, cool it back to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al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ly remove s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rea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owing bodies of water that are useful resources for irrigation, factories, and local water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types of streams are rivers, creeks, brooks, and can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rmined by volume and velo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ood Web in Strea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reams are freshwater and they can flow through a natural or man-made channe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1143000" y="11430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oss Section of a Stream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86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ate of flow in a stream is called a curr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081760" y="1752480"/>
            <a:ext cx="3860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iv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trea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high streamflow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illinois-peorial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124080"/>
            <a:ext cx="39621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reek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tream that is smaller than a ri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ten flow into rivers, lakes, and ocea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rook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mall stream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ten flow into creeks, rivers, lakes, and ocea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an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rtificial waterway built for transportation, to relieve flooding, or to divert the flow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pan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50532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nswer the following questions.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last time you took a drink of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you take this d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 think the water ca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 you belong in the water 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Non-Flowing Bodi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luence the weather, climate, commerce, food supply, and recreational activities of an ar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ill have internal movement caused by temperature changes and salin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s of non-flowing bod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eans, lakes, ponds, reservoirs, sloughs, marshes, and estu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cean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salt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ver almost 75 percent of the surface of the ear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ak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dies of freshwater that are surrounded by la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y in size, some are natural and others are man-mad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ond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flowing bodies of water that are smaller than lak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ly manmade and used as a source of recreation or for use by livestoc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po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572000"/>
            <a:ext cx="2639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eservoi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stored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only used to generate electric pow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lough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ck, muddy areas of shallow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rsh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as of land covered with shallow water and plants such as cattai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not contain trees and are similar in nature to slough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mars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724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Estuari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as where freshwater streams flow into the ocean or a saltwater lak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e the sampl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one sample of water better or worse than an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would you rather drink and 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Importance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of the basic needs for life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of wa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 (Hydrologic Cycle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875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uous movement of water from the earth to the atmosphere and ba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n provides the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s in four overlapping sphe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Life Process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animals are made up of 60 to 70 percent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lants are made up of 70 to 95 percent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aily Liv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erage person uses approximately 100 gallons a da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te rem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griculture Produc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used in agriculture production for the irrigation of crops and the watering of anim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irr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4267080"/>
            <a:ext cx="31086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limat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capable of moderating the climate in the immediate are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ting and transferring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bodies of water can also cause storms, high winds, and hurrican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anufactu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used in the manufacturing of products such as steel, paper, and food process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pal2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09880"/>
            <a:ext cx="20574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ransporta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serves as a mode of transportation for boats, ships, ferries, and barg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rivdock"/>
          <p:cNvPicPr/>
          <p:nvPr/>
        </p:nvPicPr>
        <p:blipFill>
          <a:blip r:embed="rId1"/>
          <a:stretch/>
        </p:blipFill>
        <p:spPr>
          <a:xfrm>
            <a:off x="3809880" y="4417920"/>
            <a:ext cx="50673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Recrea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reational activities such as swimming, boating, and fishing all take place in the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fish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809880"/>
            <a:ext cx="2666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otabl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that is safe for human use and consump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in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variations in the odor, taste, color, pH, alkalinity, and hardness of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auc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98280"/>
            <a:ext cx="18748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Odor and Tast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mmonly the result of the water source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metimes the addition of chemical to the water by the local water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 causes are pollution, organic sulfur, and microorganism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lo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8028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ed water may be the result of minerals such as iron and calcium in the water, sediment, organic matter, and plankt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rger particles can be easily removed through filtr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594240" y="0"/>
            <a:ext cx="554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asurement of the acidity or alkalinity of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is often treated so that it remains in the pH range of 7.0 to 7.8, or almost neutra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ardnes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centration of calcium and magnesium ions in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igher the concentration of ions, the harder the 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dness can be reduced through a process referred to as soften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umped from wells usually needs little treat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ing chlorine for dis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fteners to reduce hardn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rface water commonly requires more treatment than well 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ur steps in treating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eening to remov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dimentation and sedimentation to remove sediment from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ation to disinfect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filtration to make the water po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ethods of Water Manage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935520" cy="5105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06880" y="1600200"/>
            <a:ext cx="393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 business, additional complex filtering may take place before water flows through machines such as ice mak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ourc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main sources of water are surface water and ground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611520" y="200016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11"/>
          <p:cNvGrpSpPr/>
          <p:nvPr/>
        </p:nvGrpSpPr>
        <p:grpSpPr>
          <a:xfrm>
            <a:off x="3611520" y="2000160"/>
            <a:ext cx="360" cy="360"/>
            <a:chOff x="3611520" y="2000160"/>
            <a:chExt cx="360" cy="360"/>
          </a:xfrm>
        </p:grpSpPr>
        <p:sp>
          <p:nvSpPr>
            <p:cNvPr id="253" name="Rectangle 8"/>
            <p:cNvSpPr/>
            <p:nvPr/>
          </p:nvSpPr>
          <p:spPr>
            <a:xfrm>
              <a:off x="3611520" y="2000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611520" y="2000160"/>
              <a:ext cx="360" cy="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5" name="Picture 13" descr="groundwater"/>
          <p:cNvPicPr/>
          <p:nvPr/>
        </p:nvPicPr>
        <p:blipFill>
          <a:blip r:embed="rId1"/>
          <a:stretch/>
        </p:blipFill>
        <p:spPr>
          <a:xfrm>
            <a:off x="2590920" y="3581280"/>
            <a:ext cx="4686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rfac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found on the surface of the earth in lakes, streams, rivers, and ocean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either freshwater or saltwate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in source is precipit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for human consumption and agricultural u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water should be treated before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Ground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from within the ear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be located a few feet or thousands of feet within the ear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s much of the freshwater we us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usually be used with little treat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dition of water for a particular us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fected by how people use and abuse water resourc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254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5440" y="1514520"/>
            <a:ext cx="8058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9" descr="faucetphoto"/>
          <p:cNvPicPr/>
          <p:nvPr/>
        </p:nvPicPr>
        <p:blipFill>
          <a:blip r:embed="rId1"/>
          <a:stretch/>
        </p:blipFill>
        <p:spPr>
          <a:xfrm>
            <a:off x="6095880" y="4876920"/>
            <a:ext cx="1981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Facto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93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dor and Tas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06880" y="1523880"/>
            <a:ext cx="3935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bid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vy Met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cal Resid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iform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Cycle Spher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dr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and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water and precip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and animals that consum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h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where the water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atmosphe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184480"/>
            <a:ext cx="1752840" cy="1168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ios_comm_ear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5010120"/>
            <a:ext cx="1996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urbidit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lid material suspended in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terials may be soil particles or microscopic organis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bid water is not clear; light cannot pass through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emove turbidity, the water has to be filtered and the particles allowed to sett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608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6" descr="Picture of three glass beakers with water with turbidities of 10, 200, and 1500.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eavy Metal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ing mercury and lead, may be hazardous to the water supp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was once commonly used to seal j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ipes should be repla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emical Residu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residues from various chemicals including pesticides can be dangerous to human heal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liform Bacteria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0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indication of fecal contamination in the water supp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from human or animal waste getting into the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contaminated with coliform bacteria is not fit for consump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iform bacteria can be destroyed by boiling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SummaryQualityPetri1"/>
          <p:cNvPicPr/>
          <p:nvPr/>
        </p:nvPicPr>
        <p:blipFill>
          <a:blip r:embed="rId1"/>
          <a:stretch/>
        </p:blipFill>
        <p:spPr>
          <a:xfrm>
            <a:off x="6705720" y="228600"/>
            <a:ext cx="16383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esting Household          Water Suppli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0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 water tests that should be done on a yearly basis include coliform, nitrate, and p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ular water tests that should be done every three years include tests for sulfate, chloride, iron, manganese, and lea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advan-2"/>
          <p:cNvPicPr/>
          <p:nvPr/>
        </p:nvPicPr>
        <p:blipFill>
          <a:blip r:embed="rId1"/>
          <a:stretch/>
        </p:blipFill>
        <p:spPr>
          <a:xfrm>
            <a:off x="609480" y="15228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Tes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80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done for a couple dollars or a couple hundred dollar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 of different water tests that can be conducted include hardness, dissolved gases, nitrates and nitrites, and acid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Water%2520Treatment%2520Plant%2520Testing%2520071802"/>
          <p:cNvPicPr/>
          <p:nvPr/>
        </p:nvPicPr>
        <p:blipFill>
          <a:blip r:embed="rId1"/>
          <a:stretch/>
        </p:blipFill>
        <p:spPr>
          <a:xfrm>
            <a:off x="5867280" y="15228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5534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Water Quality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ysical, chemical, and biological make-up of the water source should be monitored regularly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at changes are taking p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determine how to stop these changes or make other correc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Monitor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sual and other physical observations of the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dor of the water sour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ce of sediment or other materials (dead animal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urse and any changes in the course of the water sou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anges in Colo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result from the presence of algae or bacteri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lake-ptco"/>
          <p:cNvPicPr/>
          <p:nvPr/>
        </p:nvPicPr>
        <p:blipFill>
          <a:blip r:embed="rId1"/>
          <a:stretch/>
        </p:blipFill>
        <p:spPr>
          <a:xfrm>
            <a:off x="3581280" y="3352680"/>
            <a:ext cx="34290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and Chemical Makeup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est form is tasteless, odorless, and colorl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hemical compound made up of two atoms of hydrogen and one atom of oxygen =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resence of Sediment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 also change the color and turbidity of the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46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6" descr="sediment"/>
          <p:cNvPicPr/>
          <p:nvPr/>
        </p:nvPicPr>
        <p:blipFill>
          <a:blip r:embed="rId1"/>
          <a:stretch/>
        </p:blipFill>
        <p:spPr>
          <a:xfrm>
            <a:off x="4495680" y="32767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oam Form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uld indicate the presence of decomposi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3" descr="foam"/>
          <p:cNvPicPr/>
          <p:nvPr/>
        </p:nvPicPr>
        <p:blipFill>
          <a:blip r:embed="rId1"/>
          <a:stretch/>
        </p:blipFill>
        <p:spPr>
          <a:xfrm>
            <a:off x="4038480" y="3581280"/>
            <a:ext cx="23623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est for Odor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simple as smelling the wat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dor of rotten eggs would indicate high levels of sulfu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wage and chlorine are other obvious od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hange of Cours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hange of the water course source is usually due to eros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y to prevent changes in course is biological engineer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logical engineering is using plants to stabilize creek or stream ban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Hardnes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ed in parts per million (ppm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than 100 ppm is most desirabl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with 250 ppm or more are considered hard and require trea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Dissolved Gas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bon dioxide and hydrogen sulfide present in a water sample can result in a fowl odor or tast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Nitrates and nitrite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t in the water when organic matter begins to break down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ate levels above 10 milligrams per liter indicate contamin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itrite levels above 0.0005 milligrams per liter indicate contamin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hysical States of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lid = 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freezes at 32°F or 0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= water vapor or s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boils at 212°F or 100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between = liquid 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CH03_08"/>
          <p:cNvPicPr/>
          <p:nvPr/>
        </p:nvPicPr>
        <p:blipFill>
          <a:blip r:embed="rId1"/>
          <a:stretch/>
        </p:blipFill>
        <p:spPr>
          <a:xfrm>
            <a:off x="4773600" y="1523880"/>
            <a:ext cx="42940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aline 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875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ter that contains sa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ium chloride, potassium, and magnesium can raise the level of salts in the w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salt in the water will determine its useful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is too high in salt cannot be used for drinking or irr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shwater, saltwater, brack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reshwater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than 3.0 parts per thousand (ppt) of sal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lled wells, streams, and lak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percent of the water on the earth is considered freshwater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f this 3 percent only 1 percent is available for u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56:43Z</dcterms:created>
  <dc:creator>Administrator</dc:creator>
  <dc:description/>
  <dc:language>en-US</dc:language>
  <cp:lastModifiedBy>Alicia Burge</cp:lastModifiedBy>
  <dcterms:modified xsi:type="dcterms:W3CDTF">2011-01-04T03:33:09Z</dcterms:modified>
  <cp:revision>21</cp:revision>
  <dc:subject/>
  <dc:title>PowerPoint Presentation</dc:title>
</cp:coreProperties>
</file>